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830-6AB4-4B65-9232-063CDDA9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18C-B47E-4DED-BB2E-97990A69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87C4-FA88-48A8-BD65-EF24979F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B09-080D-41F8-B42D-CBCCDF25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819F-7570-426D-8D3D-8B76D837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79E2-8B29-4A75-966E-E8D6A48E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ECA2-BDD5-4DA1-9DAC-1314D16A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5396-75FE-4769-B56E-83E7354E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8668-6C29-4580-96C3-794DFDF9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EA4A-C4F8-4CC0-A726-869BCDC6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0D20-A665-4BBC-9958-FF6FD70A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4FD-9290-4774-ABDC-271B1559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D5A9-5002-48E7-B7E3-ADF20268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6E03-E99B-4619-BB30-D03DB543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387B-C557-414F-86BE-3E5738D2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CC37-290F-478C-B16C-2010E4C9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190C-BEE7-4AFA-A90C-BB273D9A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8E7-A686-4590-8E60-3A6598F1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1C8-34B6-4B20-A094-6AC8132F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941-8C2B-4FCF-80BF-2576314E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BB6-CE47-41A1-88A9-47BDE018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3E3-A825-4130-B523-CAFF33C9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552-A02A-4246-8545-673C19F9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62B-8AC0-4CD7-8EEA-28669504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CC1C1-83E2-476D-B0D4-A579EE9F21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5C633-C9E1-41B2-9D2A-715E2BD419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1143000" y="16765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rial Peripheral Interfa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 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ranjan Ram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hael St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an Tikhon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219320" y="3808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ock Phase (Advanced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1182600" y="2017800"/>
            <a:ext cx="77724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hases and two polarities of c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ter and selected slave must be in same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ter must change polarity and phase to communicate with slaves of different nu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ming Diagra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692000" y="5334120"/>
            <a:ext cx="576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Diagram – Showing Clock polarities and pha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ttp://www.maxim-ic.com.cn/images/appnotes/3078/3078Fig02.gi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610240" cy="30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182600" y="2017800"/>
            <a:ext cx="77724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and ea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Fast for point-to-poi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asily allows streaming/Constant data in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No addressing/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one supports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 makes multiple slaves very compl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nowledgement 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herent arbi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Serial Encoders/Decoders, Converters, Serial LCDs, Sensors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-SPI serial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PC implements SPI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bus of choice for communicating with small peripher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182600" y="2017800"/>
            <a:ext cx="7772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 – 4 wire serial bus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MOSI MISO SS SCLK w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laves, One ma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for point-to-point streaming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ily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182600" y="2017800"/>
            <a:ext cx="777240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spcBef>
                <a:spcPts val="7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7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information and sour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signing Embedded Hardwa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y John Catsoul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oduction to Serial Peripheral Interface” by David Kalinsky and Roee Kalinsky (Embedded.com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gramming Embedded System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y Michael Barr and Anthony Mas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I - Serial Peripheral Interface” at http://www.mct.net/faq/spi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kipedia.org – Serial Peripheral Interface B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451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Serial Peripheral Interface (SPI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 / Cons and Competi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86200" y="4952880"/>
            <a:ext cx="4444920" cy="1384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3962520" y="6019920"/>
            <a:ext cx="2884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upload.wikimedia.org/wikipedia/commons/thumb/e/ed/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I_single_slave.svg/350px-SPI_single_slave.svg.png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I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29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ial Bu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, Easy to use, 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one supports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639880" cy="19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201456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Line 12"/>
          <p:cNvSpPr/>
          <p:nvPr/>
        </p:nvSpPr>
        <p:spPr>
          <a:xfrm>
            <a:off x="2895480" y="4800600"/>
            <a:ext cx="2895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13"/>
          <p:cNvSpPr/>
          <p:nvPr/>
        </p:nvSpPr>
        <p:spPr>
          <a:xfrm>
            <a:off x="2971800" y="5029200"/>
            <a:ext cx="2819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2971800" y="53341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15"/>
          <p:cNvSpPr/>
          <p:nvPr/>
        </p:nvSpPr>
        <p:spPr>
          <a:xfrm flipH="1" flipV="1">
            <a:off x="2895480" y="5638680"/>
            <a:ext cx="2895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I Bas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1182600" y="2017800"/>
            <a:ext cx="77724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munication protocol using 4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lso known as a 4 wire 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o communicate across small distanc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laves, Single Ma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pabilities of SP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182600" y="201780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Full Duplex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ommunicating in two directions at the same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mission need not be meaning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Mbps transmission sp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ers data in 4 to 16 bit charac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l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aisy-chaining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toc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182600" y="2017800"/>
            <a:ext cx="777240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Master Out Slave In (MOS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Master In Slave Out (MISO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ystem Clock (SCL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lave Select 1…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 Set Slave Select 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 Generates C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ft registers shift in and ou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4248000" y="762120"/>
            <a:ext cx="489600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res in Detai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182600" y="2017800"/>
            <a:ext cx="777240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I – Carries data out of Master to Sla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O – Carries data from Slave to Ma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oth signals happen for every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_BAR – Unique line to select a sla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LK – Master produced clock to synchronize data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78468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ifting Protoc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Group 2"/>
          <p:cNvGrpSpPr/>
          <p:nvPr/>
        </p:nvGrpSpPr>
        <p:grpSpPr>
          <a:xfrm>
            <a:off x="1219320" y="2133720"/>
            <a:ext cx="6399000" cy="2558880"/>
            <a:chOff x="1219320" y="2133720"/>
            <a:chExt cx="6399000" cy="2558880"/>
          </a:xfrm>
        </p:grpSpPr>
        <p:pic>
          <p:nvPicPr>
            <p:cNvPr id="125" name="Picture 3" descr=""/>
            <p:cNvPicPr/>
            <p:nvPr/>
          </p:nvPicPr>
          <p:blipFill>
            <a:blip r:embed="rId1"/>
            <a:stretch/>
          </p:blipFill>
          <p:spPr>
            <a:xfrm>
              <a:off x="1219320" y="2133720"/>
              <a:ext cx="639900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4"/>
            <p:cNvSpPr/>
            <p:nvPr/>
          </p:nvSpPr>
          <p:spPr>
            <a:xfrm>
              <a:off x="1219320" y="2133720"/>
              <a:ext cx="6399000" cy="25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" name="Text Box 5"/>
          <p:cNvSpPr/>
          <p:nvPr/>
        </p:nvSpPr>
        <p:spPr>
          <a:xfrm>
            <a:off x="1297440" y="4876920"/>
            <a:ext cx="621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shifts out data to Slave, and shift in data from Sla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upload.wikimedia.org/wikipedia/commons/thumb/b/bb/SPI_8-bit_circular_transfer.svg/400px-SPI_8-bit_circular_transfer.svg.png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276720" cy="26035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685800" y="5029200"/>
            <a:ext cx="3505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and multiple independent sla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upload.wikimedia.org/wikipedia/commons/thumb/f/fc/SPI_three_slaves.svg/350px-SPI_three_slaves.svg.png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876920" y="457200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and multiple daisy-chained sla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http://www.maxim-ic.com/appnotes.cfm/an_pk/3947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952880" y="42670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me wires have been renamed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4038480" y="2438280"/>
            <a:ext cx="4981680" cy="189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EN</dc:creator>
  <dc:description/>
  <dc:language>en-US</dc:language>
  <cp:lastModifiedBy>WinXP</cp:lastModifiedBy>
  <dcterms:modified xsi:type="dcterms:W3CDTF">2013-02-06T10:41:28Z</dcterms:modified>
  <cp:revision>10</cp:revision>
  <dc:subject/>
  <dc:title>Serial Peripheral Interface</dc:title>
</cp:coreProperties>
</file>